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12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A4BC-C7F3-41A2-9C32-890DA309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CEFE-95A3-4C99-974D-A289DA3B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A32-12DF-4B6A-AC0D-F4ED3A73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953-B3B3-442A-9F65-5F271FE3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8A2-A8B4-4ADF-9C71-664390EF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83E-E7F6-42B6-9432-704BC3B0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D474-73BC-41B2-92F2-4915A95D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F8B-967F-4999-9EC3-594185CE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72C0-67BB-474D-B72A-F018B126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204-EF99-4B87-8189-DD682701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2D43-12DC-474D-8141-BC131771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41D-23B6-403B-8148-04F54F83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7BAD-BC6C-4208-892A-B55FBE28E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chie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743200" y="190512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 leader of a grou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600200" y="388620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chief told the firemen to get down the pole quick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C:\Documents and Settings\kcs user\Local Settings\Temporary Internet Files\Content.IE5\I59DIVBT\MCj04241540000[1].wmf"/>
          <p:cNvPicPr/>
          <p:nvPr/>
        </p:nvPicPr>
        <p:blipFill>
          <a:blip r:embed="rId1"/>
          <a:stretch/>
        </p:blipFill>
        <p:spPr>
          <a:xfrm>
            <a:off x="304920" y="609480"/>
            <a:ext cx="144756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ge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quipment used to do certain th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y gear for baseball is a bat, ball and glo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C:\Documents and Settings\kcs user\Local Settings\Temporary Internet Files\Content.IE5\I59DIVBT\MCj04370740000[1].png"/>
          <p:cNvPicPr/>
          <p:nvPr/>
        </p:nvPicPr>
        <p:blipFill>
          <a:blip r:embed="rId1"/>
          <a:stretch/>
        </p:blipFill>
        <p:spPr>
          <a:xfrm>
            <a:off x="304920" y="4572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etect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device that detects or picks up a sign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smoke detector has saved many lives from fi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C:\Documents and Settings\kcs user\Local Settings\Temporary Internet Files\Content.IE5\VSX0T3LB\MCBD06920_0000[1].wmf"/>
          <p:cNvPicPr/>
          <p:nvPr/>
        </p:nvPicPr>
        <p:blipFill>
          <a:blip r:embed="rId1"/>
          <a:stretch/>
        </p:blipFill>
        <p:spPr>
          <a:xfrm>
            <a:off x="533520" y="380880"/>
            <a:ext cx="18208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examin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look over carefu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doctor wanted to examine the bump on my h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C:\Documents and Settings\kcs user\Local Settings\Temporary Internet Files\Content.IE5\9Q2J45KX\MCPE07303_0000[1].wmf"/>
          <p:cNvPicPr/>
          <p:nvPr/>
        </p:nvPicPr>
        <p:blipFill>
          <a:blip r:embed="rId1"/>
          <a:stretch/>
        </p:blipFill>
        <p:spPr>
          <a:xfrm>
            <a:off x="0" y="0"/>
            <a:ext cx="2062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mother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put ou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y to smother the fi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C:\Documents and Settings\kcs user\Local Settings\Temporary Internet Files\Content.IE5\XMBH62NV\MCj04348160000[1].png"/>
          <p:cNvPicPr/>
          <p:nvPr/>
        </p:nvPicPr>
        <p:blipFill>
          <a:blip r:embed="rId1"/>
          <a:stretch/>
        </p:blipFill>
        <p:spPr>
          <a:xfrm>
            <a:off x="609480" y="533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valv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ts that control he flow of wa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t off the valves before the water floods the building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C:\Documents and Settings\kcs user\Local Settings\Temporary Internet Files\Content.IE5\XMBH62NV\MPj03996780000[1].jpg"/>
          <p:cNvPicPr/>
          <p:nvPr/>
        </p:nvPicPr>
        <p:blipFill>
          <a:blip r:embed="rId1"/>
          <a:stretch/>
        </p:blipFill>
        <p:spPr>
          <a:xfrm>
            <a:off x="0" y="0"/>
            <a:ext cx="176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esignat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743200" y="190512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rked or agreed upon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600200" y="388620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r family should have a designated spot to meet if there is a fir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C:\Documents and Settings\kcs user\Local Settings\Temporary Internet Files\Content.IE5\I59DIVBT\MCj04241540000[1].wmf"/>
          <p:cNvPicPr/>
          <p:nvPr/>
        </p:nvPicPr>
        <p:blipFill>
          <a:blip r:embed="rId1"/>
          <a:stretch/>
        </p:blipFill>
        <p:spPr>
          <a:xfrm>
            <a:off x="304920" y="609480"/>
            <a:ext cx="144756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ispa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 send a message; the act of sending mess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man tried to dispatch the message that the cab driver needed to pick someone up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C:\Documents and Settings\kcs user\Local Settings\Temporary Internet Files\Content.IE5\I59DIVBT\MCj04043890000[1].wmf"/>
          <p:cNvPicPr/>
          <p:nvPr/>
        </p:nvPicPr>
        <p:blipFill>
          <a:blip r:embed="rId1"/>
          <a:stretch/>
        </p:blipFill>
        <p:spPr>
          <a:xfrm>
            <a:off x="0" y="0"/>
            <a:ext cx="17622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emergenc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219320" y="2133720"/>
            <a:ext cx="739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ings that happen without warning and require a quick respon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762120" y="449568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goalie guarded the goal and kept the other team from scoring poi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" descr="C:\Program Files\Microsoft Office\MEDIA\CAGCAT10\j0211949.wmf"/>
          <p:cNvPicPr/>
          <p:nvPr/>
        </p:nvPicPr>
        <p:blipFill>
          <a:blip r:embed="rId1"/>
          <a:stretch/>
        </p:blipFill>
        <p:spPr>
          <a:xfrm>
            <a:off x="838080" y="533520"/>
            <a:ext cx="190044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rou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219320" y="213372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path or trai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762120" y="449568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ke a safe route to get out of your home in an emergenc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7" descr="C:\Program Files\Microsoft Office\MEDIA\CAGCAT10\j0211949.wmf"/>
          <p:cNvPicPr/>
          <p:nvPr/>
        </p:nvPicPr>
        <p:blipFill>
          <a:blip r:embed="rId1"/>
          <a:stretch/>
        </p:blipFill>
        <p:spPr>
          <a:xfrm>
            <a:off x="838080" y="533520"/>
            <a:ext cx="190044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ire eng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truck used to put out fi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90720" y="3352680"/>
            <a:ext cx="647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fire engine got to the house just in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C:\Documents and Settings\kcs user\Local Settings\Temporary Internet Files\Content.IE5\I59DIVBT\MCj03580090000[1].wmf"/>
          <p:cNvPicPr/>
          <p:nvPr/>
        </p:nvPicPr>
        <p:blipFill>
          <a:blip r:embed="rId1"/>
          <a:stretch/>
        </p:blipFill>
        <p:spPr>
          <a:xfrm>
            <a:off x="533520" y="457200"/>
            <a:ext cx="13716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econd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lternate or extra w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990720" y="3352680"/>
            <a:ext cx="6476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ke a secondary escape route to get out of your house if there is a fi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C:\Documents and Settings\kcs user\Local Settings\Temporary Internet Files\Content.IE5\VSX0T3LB\MCj03963280000[1].wmf"/>
          <p:cNvPicPr/>
          <p:nvPr/>
        </p:nvPicPr>
        <p:blipFill>
          <a:blip r:embed="rId1"/>
          <a:stretch/>
        </p:blipFill>
        <p:spPr>
          <a:xfrm>
            <a:off x="0" y="0"/>
            <a:ext cx="190512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ri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practice exercis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can talk when we do a fire dri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C:\Documents and Settings\kcs user\Local Settings\Temporary Internet Files\Content.IE5\XMBH62NV\MPj04395750000[1].jpg"/>
          <p:cNvPicPr/>
          <p:nvPr/>
        </p:nvPicPr>
        <p:blipFill>
          <a:blip r:embed="rId1"/>
          <a:stretch/>
        </p:blipFill>
        <p:spPr>
          <a:xfrm>
            <a:off x="533520" y="380880"/>
            <a:ext cx="19396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firefighte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eople who put out fires as their job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refighters are very brave peop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C:\Documents and Settings\kcs user\Local Settings\Temporary Internet Files\Content.IE5\VSX0T3LB\MCj03340120000[1].wmf"/>
          <p:cNvPicPr/>
          <p:nvPr/>
        </p:nvPicPr>
        <p:blipFill>
          <a:blip r:embed="rId1"/>
          <a:stretch/>
        </p:blipFill>
        <p:spPr>
          <a:xfrm>
            <a:off x="457200" y="457200"/>
            <a:ext cx="1446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00:16:39Z</dcterms:created>
  <dc:creator>Administrator</dc:creator>
  <dc:description/>
  <dc:language>en-US</dc:language>
  <cp:lastModifiedBy>Shady Brook Elementary</cp:lastModifiedBy>
  <dcterms:modified xsi:type="dcterms:W3CDTF">2008-12-10T23:19:40Z</dcterms:modified>
  <cp:revision>5</cp:revision>
  <dc:subject/>
  <dc:title>PowerPoint Presentation</dc:title>
</cp:coreProperties>
</file>